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F80-0D5E-4AB6-81B1-1F81DC14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BF9-1327-4800-AA7B-33391AEA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1DC-1FCF-4B5A-A6FE-41218FEB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E5C-84D3-49E2-8026-008FB204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B463-1899-4644-B74D-C8E0AFC4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C46F-9CD0-43BA-BDC5-424AECA0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1AEB-2314-4C4E-BAC0-BC7A1FE8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89EF-A1F3-4476-B87F-88457E22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989C-1E39-4AC1-B83A-8519BFD4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B9C6-6291-4D0F-9E1D-8A32A429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5559-E9DD-4070-A375-343EA8B5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B50-6ED8-4102-8587-ECA8C2F3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C17C-9A7A-4FD5-9269-3467BABE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ADBA-AA7C-4AA8-834D-FF243F53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8F52-A551-4B1E-8E1F-6D3BE154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E3FA-CC2A-4AED-A3F9-C17CC3F1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AB4A-8ED1-4624-A25A-B1AD24BB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474-5FF5-406D-AEF4-F4CF3C0C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0DA-055F-408E-82DA-DF2542D0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7E5-3280-4345-9CC8-006A0ED2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FE6-50BC-43AB-A2E1-3C305CFC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E07-2E94-4AC1-82B5-9F1F2E89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BE4-FCE2-485F-A724-24BCDEA9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2B2-8994-4D36-B4B6-63EA0263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Freeform 3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99AB-EABB-43CB-AF39-265E5569A97B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Freeform 3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Group 6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Freeform 7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34E9-9D5F-47E0-9631-66E9D7FC1A51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Horace%20and%20Morris%20but%20Mostly%20delores.htm" TargetMode="External"/><Relationship Id="rId2" Type="http://schemas.openxmlformats.org/officeDocument/2006/relationships/hyperlink" Target="http://www.scottsboro.org/~flewis/SF%20Reading%20Street/spellmaster/Horace%20and%20Morris/jigword2.html" TargetMode="External"/><Relationship Id="rId3" Type="http://schemas.openxmlformats.org/officeDocument/2006/relationships/hyperlink" Target="http://www.scottsboro.org/~flewis/SF%20Reading%20Street/spellmaster/Horace%20and%20Morris/matchword2.html" TargetMode="External"/><Relationship Id="rId4" Type="http://schemas.openxmlformats.org/officeDocument/2006/relationships/hyperlink" Target="http://www.scottsboro.org/~flewis/SF%20Reading%20Street/spellmaster/Horace%20and%20Morris/speedword2.html" TargetMode="External"/><Relationship Id="rId5" Type="http://schemas.openxmlformats.org/officeDocument/2006/relationships/hyperlink" Target="http://www.scottsboro.org/~flewis/SF%20Reading%20Street/spellmaster/Horace%20and%20Morris/wordsearch2.html" TargetMode="External"/><Relationship Id="rId6" Type="http://schemas.openxmlformats.org/officeDocument/2006/relationships/hyperlink" Target="http://www.scottsboro.org/~flewis/SF%20Reading%20Street/spellmaster/Horace%20and%20Morris/wordweb.html" TargetMode="External"/><Relationship Id="rId7" Type="http://schemas.openxmlformats.org/officeDocument/2006/relationships/hyperlink" Target="http://www.spellingcity.com/index.php?option=com_spellcity&amp;task=viewList&amp;listId=825647" TargetMode="External"/><Relationship Id="rId8" Type="http://schemas.openxmlformats.org/officeDocument/2006/relationships/hyperlink" Target="http://www.spellingcity.com/index.php?option=com_spellcity&amp;task=viewList&amp;listId=825650" TargetMode="External"/><Relationship Id="rId9" Type="http://schemas.openxmlformats.org/officeDocument/2006/relationships/hyperlink" Target="http://www.scottsboro.org/~flewis/SF%20Reading%20Street/spellmaster/Horace%20and%20Morris%20Spelling%20Words/speedword2.html" TargetMode="External"/><Relationship Id="rId10" Type="http://schemas.openxmlformats.org/officeDocument/2006/relationships/hyperlink" Target="http://www.scottsboro.org/~flewis/SF%20Reading%20Street/spellmaster/Horace%20and%20Morris%20Spelling%20Words/wordweb.html" TargetMode="External"/><Relationship Id="rId11" Type="http://schemas.openxmlformats.org/officeDocument/2006/relationships/hyperlink" Target="http://www.quia.com/jg/1297316.html" TargetMode="External"/><Relationship Id="rId12" Type="http://schemas.openxmlformats.org/officeDocument/2006/relationships/hyperlink" Target="http://www.spellingcity.com/index.php?option=com_spellcity&amp;Itemid=122&amp;task=viewList&amp;listId=354280" TargetMode="External"/><Relationship Id="rId13" Type="http://schemas.openxmlformats.org/officeDocument/2006/relationships/hyperlink" Target="http://www.spellingcity.com/index.php?option=com_spellcity&amp;task=viewList&amp;listId=825653" TargetMode="External"/><Relationship Id="rId14" Type="http://schemas.openxmlformats.org/officeDocument/2006/relationships/hyperlink" Target="http://www.spellingcity.com/index.php?option=com_spellcity&amp;task=viewList&amp;listId=825653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5.png"/><Relationship Id="rId3" Type="http://schemas.openxmlformats.org/officeDocument/2006/relationships/hyperlink" Target="http://images.google.com/imgres?imgurl=http://woodmanor.net/images/clubhouse%2520left%2520back%2520side%2520mask.jpg&amp;imgrefurl=http://woodmanor.net/clubhouse.html&amp;usg=__ADs4nQUJySlXHmox0R-mKDJhyzA=&amp;h=324&amp;w=432&amp;sz=31&amp;hl=EN&amp;start=5&amp;tbnid=yaN1MStGo3Q1oM:&amp;tbnh=95&amp;tbnw=126&amp;prev=/images?q=clubhouse&amp;gbv=2&amp;hl=E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bettersheds.com/cedar/clubhouse350bg.jpg&amp;imgrefurl=http://www.bettersheds.com/cedar/clubhouse.htm&amp;usg=__X6YYHnJRXoFhyQFmOCXcTFxcJaw=&amp;h=318&amp;w=350&amp;sz=41&amp;hl=EN&amp;start=7&amp;tbnid=6PpS8IeydfZJTM:&amp;tbnh=109&amp;tbnw=120&amp;prev=/images?q=clubhouse&amp;gbv=2&amp;hl=EN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7.xml"/><Relationship Id="rId3" Type="http://schemas.openxmlformats.org/officeDocument/2006/relationships/slide" Target="slide74.xml"/><Relationship Id="rId4" Type="http://schemas.openxmlformats.org/officeDocument/2006/relationships/slide" Target="slide106.xml"/><Relationship Id="rId5" Type="http://schemas.openxmlformats.org/officeDocument/2006/relationships/slide" Target="slide141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55600"/>
            <a:ext cx="7772400" cy="4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hat do good friends and neighbors do?</a:t>
            </a:r>
            <a:br>
              <a:rPr sz="4400"/>
            </a:b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Click to listen to the story.</a:t>
            </a:r>
            <a:br>
              <a:rPr sz="1600"/>
            </a:br>
            <a:endParaRPr b="0" i="1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0" descr="Horace and Morris"/>
          <p:cNvPicPr/>
          <p:nvPr/>
        </p:nvPicPr>
        <p:blipFill>
          <a:blip r:embed="rId1"/>
          <a:stretch/>
        </p:blipFill>
        <p:spPr>
          <a:xfrm>
            <a:off x="2743200" y="2514600"/>
            <a:ext cx="3656160" cy="36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on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9810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live in a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or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th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ople.  Some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our friends and our neighbors. What do good friends and neighbors do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ord Ending -es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s ending can be added to words to change their meaning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example, the word quick means 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ery fast.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dding the suffix –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o quick to make quickest changes its meaning to the 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st fast.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nk of other words you can add the suffix –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er didn</a:t>
            </a:r>
            <a:r>
              <a:rPr b="1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 play to day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he didn</a:t>
            </a:r>
            <a:r>
              <a:rPr b="1" lang="ja-JP" sz="6000" spc="-1" strike="noStrike">
                <a:solidFill>
                  <a:srgbClr val="ffff66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t play today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he has an rough coufh.  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he has a rough cough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66"/>
              </a:buClr>
              <a:buSzPct val="7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ob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nt to se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circu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, i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ara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elp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enny and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make popcorn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she, u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new friend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built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 clubhous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they, i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br>
              <a:rPr sz="4000"/>
            </a:b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Purpo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morrow we will read about children who play on a soccer team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ednes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time you and a friend had a disagreement.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hur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371600" y="2209680"/>
          <a:ext cx="6095880" cy="4091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092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 story about some young soccer players. The photographs show that they like working and laughing together. What do you like to do with your friends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hur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371600" y="2209680"/>
          <a:ext cx="6095880" cy="4091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092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 story about some young soccer players. The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hotograph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how that they like working and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augh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gether. What do you like to do with your friends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tribute to Discussio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666880" y="1295280"/>
          <a:ext cx="3733920" cy="526104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az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n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ocio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honics: ph, gh,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Purpo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k Questio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Eat Your Vegetable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entence Reading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told Mom I shall redo my graph even though I disag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d said most people at the photo shoot were pleasan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will probably rewind the tape so we can replay i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you mind if we remount the sign on a tough, new post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entence Reading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lot of coats are bought and sold when it is col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m said she would be scared if she saw a child try to preheat a stov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Student Pages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5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jamie and Marge has work too do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Jamie and Marge have work to do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ill They work togeter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Will they work together?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is the difference between the pronouns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ch pronouns are used as subjects of a sentence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1800" y="799920"/>
            <a:ext cx="7340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Verdana"/>
              <a:ea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i="1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 – pre – ci – a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feel grateful or thankful for someth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how hard our mother work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having a friend who is always nice to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gifts we get for our birthday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ac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ac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ac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ontribute to Discussio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peaker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Take turns speaking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Speak loudly enough to be heard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Speak clearly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Support your ideas with facts when you ca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ctive Listener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Listen respectfully to other speaker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Ask questions to seek information, explanations, and clarific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Respond constructively to ideas of other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king connections:  Text to Tex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read a story about children who play on a soccer team.  Tomorrow we will read about the friends agai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 – mu – ni - cate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a person, you talk to each other or keep in touch in other ways such as writing or sign language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My friends and I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each other every day during lunch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my grandmother by e-mail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Jane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s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her hearing-impaired friend by using sign language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hur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ways you can show fairness and respect.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Friday 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447920" y="190512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characters who worked hard at being good friends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's not always easy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oes it mean to be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ood friend or neighbor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gh Frequenc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666880" y="1295280"/>
          <a:ext cx="3733920" cy="526104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az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n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ocio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heard you laugh while on the phon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is tough to say the alphabet backwards!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n draw a rough sketch of a dolphin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 took enough photos of his nephew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743200" y="1143000"/>
          <a:ext cx="3962520" cy="51879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21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ocabular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ntur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mb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hous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ing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heart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wer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____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___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___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____!</a:t>
            </a: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”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 – spec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feeling of high regard you have for another perso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one, you admire that person and think a lot of him or he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Our principal has th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f all students in the schoo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Children should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ir parent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mayor for making our city a better place to liv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</a:t>
            </a: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”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____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</a:t>
            </a: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”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___-not bor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</a:t>
            </a: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”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reatest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-not bor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That is the ___ thing I can say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</a:t>
            </a: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”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reatest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-not bor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That is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truest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hing I can say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Rhyming Words 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climbed to the top of the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tre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clubhouse with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m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wondered what we shoul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adventure!</a:t>
            </a: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”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 I said, out of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greatest -not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b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That is the truest thing I can say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971800" y="1219320"/>
          <a:ext cx="3352680" cy="5162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89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igh Frequenc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gh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as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re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y phriend call me on the phone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My friend called me on the phone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er made me  lauff.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he made me laugh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5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Tabl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 can use a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abl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o show information and make it easier to understan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itl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ells what the table is abou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bles are shaped like box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boxes contain words or numbers arranged in rows and column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ords tell what information is being give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Row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go across and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column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go up and dow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Mouse Club Members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685800" y="1981080"/>
          <a:ext cx="7772400" cy="3826080"/>
        </p:xfrm>
        <a:graphic>
          <a:graphicData uri="http://schemas.openxmlformats.org/drawingml/2006/table">
            <a:tbl>
              <a:tblPr/>
              <a:tblGrid>
                <a:gridCol w="3048120"/>
                <a:gridCol w="1600200"/>
                <a:gridCol w="1676160"/>
                <a:gridCol w="144792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ega Mice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9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7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5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heese Puffs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8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sky Whiskers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am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do you know about the sound at the beginning of this word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day we will study other spellings for /f/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00"/>
                </a:solidFill>
                <a:latin typeface="Arial"/>
              </a:rPr>
              <a:t>Wrap Up Your Week!</a:t>
            </a:r>
            <a:endParaRPr b="0" i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1" i="1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 Talk Abou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Friday </a:t>
            </a:r>
            <a:endParaRPr b="0" i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how to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w respect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APTPlus Videos </a:t>
            </a:r>
            <a:br>
              <a:rPr sz="4400"/>
            </a:b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(password required)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riendship Day (09:59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Friendship Stone (10:3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ocky Friendship (10:29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cus on Friendship (17:0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utenstein: Keep Your Wandering Eye to Yourself (22:34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utenstein: The Truth Hurts (22:0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eep and the Big Wide World: Wandering Beaver/Peep's New Friend (22:02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SPY a Tick-illy Hiccup (12:32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SPY a Mumble Monster Picture Day (12:33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nnonball (28:3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nt (09:00)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onty (07:07)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ree Cheers for Catherine the Great! (20:00)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i="1" lang="en-US" sz="4400" spc="-1" strike="noStrike">
                <a:solidFill>
                  <a:srgbClr val="00cccc"/>
                </a:solidFill>
                <a:latin typeface="Verdana"/>
              </a:rPr>
              <a:t>take our story tests.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y t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assroom webpage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 page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king Test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Reading Quizz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z # 904624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29000" y="304920"/>
            <a:ext cx="510552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irefighter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The letter f usually stands for the sound /f/.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fan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fix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fast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fit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fill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The letters ph usually stand for the sound  /f/.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The letter gh may stand for the sound /f/ when they follow a vowel.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C:\Users\Freida Lewis\Desktop\sound cards\card 12.jpg"/>
          <p:cNvPicPr/>
          <p:nvPr/>
        </p:nvPicPr>
        <p:blipFill>
          <a:blip r:embed="rId1"/>
          <a:stretch/>
        </p:blipFill>
        <p:spPr>
          <a:xfrm>
            <a:off x="380880" y="304920"/>
            <a:ext cx="2706840" cy="61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r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657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do you know about reading these words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ph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stand for the soun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/f/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h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often stand for the soun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/f/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when they follow a vowe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71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pher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pha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Verdana"/>
              </a:rPr>
              <a:t>Small</a:t>
            </a:r>
            <a:r>
              <a:rPr b="1" i="1" lang="en-US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5400" spc="-1" strike="noStrike">
                <a:solidFill>
                  <a:srgbClr val="ffff66"/>
                </a:solidFill>
                <a:latin typeface="Verdana"/>
              </a:rPr>
              <a:t>Group</a:t>
            </a:r>
            <a:r>
              <a:rPr b="1" i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5400" spc="-1" strike="noStrike" u="sng">
                <a:solidFill>
                  <a:srgbClr val="3366ff"/>
                </a:solidFill>
                <a:uFillTx/>
                <a:latin typeface="Verdana"/>
                <a:hlinkClick r:id="rId1"/>
              </a:rPr>
              <a:t>Timer</a:t>
            </a:r>
            <a:endParaRPr b="0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Verdana"/>
              </a:rPr>
              <a:t>Making Word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ff0000"/>
                </a:solidFill>
                <a:latin typeface="Verdana"/>
                <a:ea typeface="Arial"/>
              </a:rPr>
              <a:t>a, e, o, u</a:t>
            </a:r>
            <a:endParaRPr b="0" i="1" lang="en-US" sz="10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000000"/>
                </a:solidFill>
                <a:latin typeface="Verdana"/>
                <a:ea typeface="Arial"/>
              </a:rPr>
              <a:t>g, h, l, n, p, r, s, t</a:t>
            </a:r>
            <a:endParaRPr b="0" i="1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ord Reading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1447560"/>
            <a:ext cx="31240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at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opher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hot 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0600" y="12952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lphin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noug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it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ink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hras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ug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ou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uthor</a:t>
            </a:r>
            <a:r>
              <a:rPr b="1" i="1" lang="ja-JP" sz="40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 Purpose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sk Question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membe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ad Dog, Dodge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!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scribe some of the funny things Dodger di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you think the author wanted to make us laugh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s have a reason for writing what they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y may want to teach us something, they may want us to believe something, or they may want to make us laugh or imagin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uthor</a:t>
            </a:r>
            <a:r>
              <a:rPr b="1" i="1" lang="ja-JP" sz="40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 Purpose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sk Question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times authors have more than one reason for writ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ood readers ask themselves questions before, during, and after read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king questions will help us understand the author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reasons for writing the selectio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Student Pages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t was her fawlt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t was her fault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n august they will wak to  school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n August they will walk to school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Calvin has a new bike.  He can</a:t>
            </a:r>
            <a:r>
              <a:rPr b="1" i="1" lang="ja-JP" sz="36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 ride it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the subject of a sentence.  The pronoun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used after the action verb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rid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Calvin is riding his bike.  Angela helped him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used after the action verb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elpe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Verdana"/>
              </a:rPr>
              <a:t>Review Game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cabulary &amp; Amazing Words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7"/>
              </a:rPr>
              <a:t>Spelling City: Vocabular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8"/>
              </a:rPr>
              <a:t>Spelling City: Amazing Word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Words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3"/>
              </a:rPr>
              <a:t>Spelling City</a:t>
            </a: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4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dad drov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m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dad drov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m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thank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 and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dad drov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me. (her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thank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 and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u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sonant Sound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lling Consonant Sound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Purpo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morrow the class will read about three friends who love to go on adventures together until they are faced with a decisio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on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952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ways you can show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members that you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 them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uesday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7920" y="251460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Horace and Morris,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mostly Dolores. These three mice are really good friends. What makes a really good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uesday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47920" y="251460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Horace and Morris,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ost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lores. These three mice are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al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od friends. What makes a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al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od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lling words with 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gh Frequenc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blem and Solu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666880" y="1295280"/>
          <a:ext cx="3733920" cy="526104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az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n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ocio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1800" y="799920"/>
            <a:ext cx="7340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Verdana"/>
              <a:ea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i="1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demand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 – m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order someone to do something, you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he or she does i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friend asked me nicely to help him fix his bike, but he did not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I do i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e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I clean my room on Saturday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polic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e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we move our car to a different parking spac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 – l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say something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you say it in a determined way that shows you won</a:t>
            </a:r>
            <a:r>
              <a:rPr b="0" i="1" lang="ja-JP" sz="3200" spc="-1" strike="noStrike">
                <a:solidFill>
                  <a:srgbClr val="ffffff"/>
                </a:solidFill>
                <a:latin typeface="Verdana"/>
                <a:ea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 chang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ld me I could not go outside until I cleaned my room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speak nicely, but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when I give commands to my do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 – van – tage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have an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you are in a better or more favorable position than someone els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Jason ran faster than the others, so he had an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the rac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Bob had an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ver Ray in getting the job because he had two years of experienc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Bear and Duck on the Ru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can read this word because you know how to read words with letters that make the consonant sound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/f/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sound do the letters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p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stand for in this word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t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you come to a new word, look at the letters from left to right and think about the consonant sound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 the sounds in the word to yourself and then read the word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8120" y="1523520"/>
            <a:ext cx="5410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phi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ghing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egrap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l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phabe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8" descr="Phonics Songs and Rhymes Chart 24"/>
          <p:cNvPicPr/>
          <p:nvPr/>
        </p:nvPicPr>
        <p:blipFill>
          <a:blip r:embed="rId1"/>
          <a:stretch/>
        </p:blipFill>
        <p:spPr>
          <a:xfrm>
            <a:off x="4038480" y="271440"/>
            <a:ext cx="4648320" cy="6586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Listen for words with </a:t>
            </a:r>
            <a:r>
              <a:rPr b="1" i="1" lang="en-US" sz="4400" spc="-1" strike="noStrike">
                <a:solidFill>
                  <a:srgbClr val="002060"/>
                </a:solidFill>
                <a:latin typeface="Arial"/>
              </a:rPr>
              <a:t>ph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002060"/>
                </a:solidFill>
                <a:latin typeface="Arial"/>
              </a:rPr>
              <a:t>gh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000"/>
            </a:b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Pick out words with the sound /f/ in </a:t>
            </a:r>
            <a:r>
              <a:rPr b="1" i="1" lang="ja-JP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In My Photo Album.</a:t>
            </a:r>
            <a:r>
              <a:rPr b="1" i="1" lang="ja-JP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8120" y="2057040"/>
            <a:ext cx="5410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743200" y="1143000"/>
          <a:ext cx="3962520" cy="51879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21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ocabular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ntur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mb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hous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ing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heart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wer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rophy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rophy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en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rophy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raphic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en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971800" y="1219320"/>
          <a:ext cx="3352680" cy="5162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89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igh Frequenc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gh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as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re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ph, fh /f/</a:t>
            </a:r>
            <a:endParaRPr b="0" i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ook at the photo of the giraffe I took at the zoo.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t was tough, but we made it to the top of the cliff.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 you have enough graph paper for math?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an exciting experienc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went upwar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great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the best or most wonderfu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tru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the most real or loy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1" action="ppaction://hlinksldjump"/>
              </a:rPr>
              <a:t>clubhous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a house or structure where a group mee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going someplace to discover what it is lik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wanted to know mor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downheart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very sa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2" action="ppaction://hlinksldjump"/>
              </a:rPr>
              <a:t>sewe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underground pipes that carry away waste                </a:t>
            </a:r>
            <a:r>
              <a:rPr b="0" i="1" lang="en-US" sz="2000" spc="-1" strike="noStrike" u="sng">
                <a:solidFill>
                  <a:srgbClr val="3366ff"/>
                </a:solidFill>
                <a:uFillTx/>
                <a:latin typeface="Arial"/>
                <a:hlinkClick r:id="rId3" action="ppaction://hlinksldjump"/>
              </a:rPr>
              <a:t>(next slide)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66ff"/>
                </a:solidFill>
                <a:uFillTx/>
                <a:latin typeface="Arial"/>
                <a:hlinkClick r:id="rId1" action="ppaction://hlinksldjump"/>
              </a:rPr>
              <a:t>clubhous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clubhouse%2520left%2520back%2520side%2520mas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362320" cy="1779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clubhouse350b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962520"/>
            <a:ext cx="2057400" cy="2152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clubhouse"/>
          <p:cNvPicPr/>
          <p:nvPr/>
        </p:nvPicPr>
        <p:blipFill>
          <a:blip r:embed="rId7"/>
          <a:stretch/>
        </p:blipFill>
        <p:spPr>
          <a:xfrm>
            <a:off x="685800" y="4017960"/>
            <a:ext cx="2286000" cy="2087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clubhouse"/>
          <p:cNvPicPr/>
          <p:nvPr/>
        </p:nvPicPr>
        <p:blipFill>
          <a:blip r:embed="rId8"/>
          <a:stretch/>
        </p:blipFill>
        <p:spPr>
          <a:xfrm>
            <a:off x="3276720" y="1981080"/>
            <a:ext cx="2935080" cy="41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Kids-Clubhouse---Hickory-Nu"/>
          <p:cNvPicPr/>
          <p:nvPr/>
        </p:nvPicPr>
        <p:blipFill>
          <a:blip r:embed="rId9"/>
          <a:stretch/>
        </p:blipFill>
        <p:spPr>
          <a:xfrm>
            <a:off x="6400800" y="1981080"/>
            <a:ext cx="204804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ewer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sewer1"/>
          <p:cNvPicPr/>
          <p:nvPr/>
        </p:nvPicPr>
        <p:blipFill>
          <a:blip r:embed="rId2"/>
          <a:stretch/>
        </p:blipFill>
        <p:spPr>
          <a:xfrm>
            <a:off x="3352680" y="4191120"/>
            <a:ext cx="2552760" cy="1914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sewer4"/>
          <p:cNvPicPr/>
          <p:nvPr/>
        </p:nvPicPr>
        <p:blipFill>
          <a:blip r:embed="rId3"/>
          <a:stretch/>
        </p:blipFill>
        <p:spPr>
          <a:xfrm>
            <a:off x="3429000" y="2209680"/>
            <a:ext cx="2124000" cy="1589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large_storm_sewer"/>
          <p:cNvPicPr/>
          <p:nvPr/>
        </p:nvPicPr>
        <p:blipFill>
          <a:blip r:embed="rId4"/>
          <a:stretch/>
        </p:blipFill>
        <p:spPr>
          <a:xfrm>
            <a:off x="685800" y="1981080"/>
            <a:ext cx="2590920" cy="2525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japanese-sewer-5"/>
          <p:cNvPicPr/>
          <p:nvPr/>
        </p:nvPicPr>
        <p:blipFill>
          <a:blip r:embed="rId5"/>
          <a:stretch/>
        </p:blipFill>
        <p:spPr>
          <a:xfrm>
            <a:off x="685800" y="4659480"/>
            <a:ext cx="2286000" cy="1465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7" descr="sewer1"/>
          <p:cNvPicPr/>
          <p:nvPr/>
        </p:nvPicPr>
        <p:blipFill>
          <a:blip r:embed="rId6"/>
          <a:stretch/>
        </p:blipFill>
        <p:spPr>
          <a:xfrm>
            <a:off x="5638680" y="1981080"/>
            <a:ext cx="2838600" cy="2140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9" descr="Sewer_1"/>
          <p:cNvPicPr/>
          <p:nvPr/>
        </p:nvPicPr>
        <p:blipFill>
          <a:blip r:embed="rId7"/>
          <a:stretch/>
        </p:blipFill>
        <p:spPr>
          <a:xfrm>
            <a:off x="6019920" y="4305240"/>
            <a:ext cx="2428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heck Lesson Vocabulary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dventur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ondered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mbed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lon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eates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rues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ubhous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oved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xploring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ir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ord Structur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are strategies to use when you come across words you don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 understan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times we can get the meaning from context clues.  Read the words and sentences around the unknown word.  Are there other words nearby to help us figure out the meaning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ord Structur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can figure out the meaning of an unfamiliar compound word if we know the meaning of the smaller word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can look for word endings in the unknown word.  Today we will learn more about the word ending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–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lot and Them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plo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of this story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The plot tells about events in the friendship of Horace, Morris, and Dolor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hem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or big idea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The big idea is the importance of friendship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16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 will rite a sine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 will write a sign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e laffed on the fone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He laughed on the phone.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rs. Rodriguez brought a book to school. 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Sh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will read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after lunch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rs. Rodriguez is the subject in the first sentences.  What pronoun took the place of Mrs. Rodriguez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sh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noun book came after the action verb in the first sentence. What pronoun took the place of book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sson Vocabular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k Questio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morrow you will hear about Duck and his best friend, Bea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uesday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time when you felt left out.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edne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47920" y="19810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Bear and Duck. Duck is Bear's greatest and truest friend.  He makes a decision to help Bear. Have you ever helped a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edne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447920" y="19810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Bear and Duck. Duck is Bear's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eates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rues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iend.  He makes a decision to help Bear. Have you ever helped a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lent Consona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ords with 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ding –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1800" y="799920"/>
            <a:ext cx="7340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Verdana"/>
              <a:ea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i="1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 – fi – ant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one is openly disobedient or challenging to someone else, that person i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dog would not get off the chai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baby brother wa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nd wouldn</a:t>
            </a:r>
            <a:r>
              <a:rPr b="0" i="1" lang="ja-JP" sz="3200" spc="-1" strike="noStrike">
                <a:solidFill>
                  <a:srgbClr val="ffffff"/>
                </a:solidFill>
                <a:latin typeface="Verdana"/>
                <a:ea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 go to be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 - ro - cious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something is powerful, violent, or fierce, it i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lion looked for food to ea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bear had a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grow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Big Question: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hat do good friends and neighbors do?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on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19810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live in a world with many people.  Some people are our friends and our neighbors. What do good friends and neighbors do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ck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ck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ong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ck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ong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ap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br>
              <a:rPr sz="4400"/>
            </a:b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dventure, climbed, clubhouse, exploring, greatest, truest, wondered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ad these sentences and tell whether they are true or false.  Change the sentences to make them mean the opposite while still using the vocabulary word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atching a boring play is a wonderful adventur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fal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______ is a wonderful adventur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If you climbed a ladder you would be off the groun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ru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If you climbed a ladder you would be ____ the grou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greatest toy is the one you want to play with all the ti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greatest toy is the one you ____ play with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n your friend says she will tell you the truest thing she knows, she is going to lie to you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n your friend says she will tell you the truest thing she knows, she is ____ going to lie to you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clubhouse is a good place to buy roller skat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clubhouse is a good place to meet with people who _____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hen you go exploring, you may find and see new thing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tru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hen you go exploring, you ___ find anything new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f your sister wondered if she could learn to roller-skate, she wanted to find out if she could do tha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f your sister wondered if she could learn to roller-skate, she knew _____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ord Ending -es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member that Horace, Morris, and Dolores were very good friend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other way to describe people who are very good friends is to say they are 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st friends.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b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means 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st good.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b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can help you remember that the suffix –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means 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mo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4-03-28T13:48:10Z</dcterms:modified>
  <cp:revision>31</cp:revision>
  <dc:subject/>
  <dc:title>Slide 1</dc:title>
</cp:coreProperties>
</file>